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8.png" ContentType="image/png"/>
  <Override PartName="/ppt/media/image1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907588" cy="6858000"/>
  <p:notesSz cx="6973888" cy="10112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D1F3-4EB7-44BA-8503-5DDCB8BA6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5000" y="384516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B975-E2F3-4F04-99F8-C98986251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950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634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1A67-650C-4441-ADB4-702436AFA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9640" y="14810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24280" y="14810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95000" y="38451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09640" y="38451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24280" y="38451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1AEF-2697-47C7-9BFC-D493B5E5A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5E0E5-E653-4DAA-9FCE-B44D5B58D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EC819-6D5D-4AE5-9F50-A190B9FF4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BA2F3-D6E5-43AD-85EF-A8DA1FB07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81508-A5FD-4A63-9DE7-684C81DD6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55025-13DB-4CA2-AF7C-FC1A9E1FE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CC389-8C9F-4860-8F09-C0E5BB326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950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00237-0373-435C-8AC9-E8BEEC85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CE46-082F-41F8-A3B8-096A27895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634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FB0E4-5471-4A72-9F6A-2953EF08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5000" y="384516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1569E-36CF-4FCF-ACB2-AD78DD5D7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5000" y="384516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3C7EB-FB6C-4C4B-932B-83C187668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950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0634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34743-4354-4A5F-A9E2-4A12CF531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09640" y="14810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24280" y="14810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95000" y="38451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09640" y="38451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524280" y="38451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EBF58-2806-42EA-96A3-4F2B4960F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BC687-9F82-467B-B132-226FA6A62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E8F59-4F20-42FC-BDAD-07BE98B13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0AFE0-3163-46C0-8B5C-AA2A59349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8776B-A84B-491E-AC4F-418785CC8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C5D11-7A0E-4A71-BF31-678EDBCAC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58F0-8522-4979-88B8-A3820BB2B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EC9DC-B055-4F35-B8FB-D054C22EF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50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30CD2-446C-49E3-9970-E952A5E19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0634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C946C-53FD-4DB8-9D34-C615509C2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95000" y="384516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B7FDA-57C8-41C9-B303-9B612863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5000" y="384516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CCC6E-A031-4917-AD5A-791175780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950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0634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8746F-BA0A-40FE-9215-195663F17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09640" y="14810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524280" y="14810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95000" y="38451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09640" y="38451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524280" y="38451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B7D56-ECEA-419A-92EE-4AE7CF607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135EA-EDB8-441B-866E-B3090A95A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B471C-415F-4EE6-8E3F-A421D07A4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C67BB-42B2-4A18-AF99-FA6262D42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AD7E-35E1-464A-BF6D-EFACA2A9E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0C215-721B-4736-BA65-4BCB3547B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F6AE9-BCF9-4CD1-9C55-397884211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5F16D-62BB-4AC7-BC45-0A7B30509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950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4CA0D-9815-4784-9BC2-B1CC0D31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634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C4769-E48D-4D64-BA17-50F6F491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95000" y="384516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E2EBE-0203-4B32-B5F9-75EDD0783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95000" y="384516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A9EAA-9D60-4427-AB98-5206C4906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950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0634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80944-8E72-43CD-8B95-2635AF77E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09640" y="14810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524280" y="14810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95000" y="38451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09640" y="38451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524280" y="38451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542DF-FC58-4EF8-89CF-01899962B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42F377-D81A-4116-971F-D6A31B908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513E-2EB8-4398-9835-962C95604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50D7F1-588E-4C38-87F2-6915B0ACA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D4CA88-71E2-4E7A-87AD-92CFAFB29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4F9755-9E3A-432E-879B-5C6106EFA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232A46-7254-4B38-B793-CC8A15833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BBFD36-DD68-4BEB-8700-279C9E469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950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DEEFA-90B7-42FC-9044-65544B475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0634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1D2EA7-EB9D-4190-AA7E-2A8CDA790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95000" y="384516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D2CD5-9E8F-48E5-A941-C949F0D03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95000" y="384516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3F1C1-3F15-4F5F-AAFD-223F7E2BC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950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50634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F0D76-79DE-4F2F-AB39-CC6367EC9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59B7-BCFE-4581-92A6-92FFB99D7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09640" y="14810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524280" y="14810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95000" y="38451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09640" y="38451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524280" y="38451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E0A688-9EEC-4719-978B-A766A613C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ADDFF-1D53-45A7-9AA1-97BA2C43F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D66F16-D07F-4243-8C77-B145D39D7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94EA28-B612-436A-9A01-984D5712A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FCE66D-E2BA-4B09-95A8-BB05FA84A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2E091E-C750-402F-B9C5-A2FE6F153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DFE3C7-5120-402E-9592-434A448AE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950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BA4FE9-3199-4548-B08F-90BB322D3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0634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844322-27AF-40A8-955B-4FF1D3EA4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95000" y="384516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2EEE47-E02D-4A61-ABF3-65D7BD06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50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2AFA-636D-4E6C-A8C5-B51533CD2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95000" y="384516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2DB3BA-B1BA-4D6A-98F2-1103C2EB6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950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50634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020B38-52FA-4715-A63B-373A67FB1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09640" y="14810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524280" y="14810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95000" y="38451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509640" y="38451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524280" y="38451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6D7540-C46E-486D-B9AC-F2DFB0EEB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477894-69C1-4169-9EC5-09D65FF32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6C2F94-3672-457D-AD0B-9C08172EF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12D990-456F-4A53-AA5C-4980DDDA2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FE6945-97C3-41B1-9B0B-DC753D8A6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5E6194-53D8-47C3-9CDB-745CF34E0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7F97F7-7F64-42E0-9F1D-37EEE91D5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950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2CCD11-370F-4249-B48D-E3169908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634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CD0B-B0CD-4C99-BB6E-1E5787555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0634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163746-B642-49FE-B227-BAA1447CC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95000" y="384516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EF8902-353D-4305-AF3C-F5E9BD9F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95000" y="384516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3BCF9B-6B49-404F-B117-C499B3575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950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50634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5189C2-D1FE-41BB-81A7-2B2AA2A43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509640" y="14810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524280" y="14810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95000" y="38451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509640" y="38451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524280" y="38451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59D1D1-1F38-492E-80EC-606750F00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FA552B-E967-4837-8DBD-655B25AAD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01A863-A7C7-46A4-BEFA-905C300CB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4E6716-CF50-4DAB-A6CF-39B84A18C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2026C4-ED4F-4956-A531-515596943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F44462-BA04-43E0-B5C7-78DEF7853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5000" y="384516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0AAA-3BF1-47F3-B93C-D22FDC0F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4C1E96-94A7-46AC-A4A0-585C7F363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950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585BEB-E631-4008-AE39-F57A7DB2A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50634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519CBC-45E6-4E2C-833D-D7F03F1C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95000" y="384516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FB142E-3C4C-4328-8516-43CAE4937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95000" y="384516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A0F961-0D33-4A5E-9743-0E49F80FA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063400" y="14810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950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63400" y="38451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F47AB1-A984-43C9-B557-681D20FED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95000" y="14810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509640" y="14810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524280" y="14810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95000" y="38451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509640" y="38451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524280" y="38451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BACE66-5592-47FF-930D-698D3F167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2 Forma libre"/>
          <p:cNvSpPr/>
          <p:nvPr/>
        </p:nvSpPr>
        <p:spPr>
          <a:xfrm>
            <a:off x="541440" y="5945040"/>
            <a:ext cx="5351400" cy="920880"/>
          </a:xfrm>
          <a:custGeom>
            <a:avLst/>
            <a:gdLst>
              <a:gd name="textAreaLeft" fmla="*/ 0 w 5351400"/>
              <a:gd name="textAreaRight" fmla="*/ 5351760 w 535140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" name="11 Forma libre"/>
          <p:cNvSpPr/>
          <p:nvPr/>
        </p:nvSpPr>
        <p:spPr>
          <a:xfrm>
            <a:off x="525600" y="5938920"/>
            <a:ext cx="3998880" cy="933480"/>
          </a:xfrm>
          <a:custGeom>
            <a:avLst/>
            <a:gdLst>
              <a:gd name="textAreaLeft" fmla="*/ 0 w 3998880"/>
              <a:gd name="textAreaRight" fmla="*/ 3999240 w 39988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2" name="13 Triángulo rectángulo"/>
          <p:cNvGrpSpPr/>
          <p:nvPr/>
        </p:nvGrpSpPr>
        <p:grpSpPr>
          <a:xfrm>
            <a:off x="-12600" y="5784840"/>
            <a:ext cx="3700440" cy="1092240"/>
            <a:chOff x="-12600" y="5784840"/>
            <a:chExt cx="3700440" cy="1092240"/>
          </a:xfrm>
        </p:grpSpPr>
        <p:pic>
          <p:nvPicPr>
            <p:cNvPr id="3" name="13 Triángulo rectángulo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70044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99880" y="6421320"/>
              <a:ext cx="18432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pic>
        <p:nvPicPr>
          <p:cNvPr id="5" name="14 Conector recto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70044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287840" y="6408720"/>
            <a:ext cx="2079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744800" y="6408720"/>
            <a:ext cx="2546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9367920" y="6408720"/>
            <a:ext cx="39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45E98-E448-4D13-88FF-FCA3DEB8806A}" type="slidenum">
              <a:rPr b="0" lang="en-GB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0 Triángulo rectángulo"/>
          <p:cNvSpPr/>
          <p:nvPr/>
        </p:nvSpPr>
        <p:spPr>
          <a:xfrm>
            <a:off x="0" y="4664160"/>
            <a:ext cx="991404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48" name="15 Grupo"/>
          <p:cNvGrpSpPr/>
          <p:nvPr/>
        </p:nvGrpSpPr>
        <p:grpSpPr>
          <a:xfrm>
            <a:off x="-4680" y="4952880"/>
            <a:ext cx="9910800" cy="1911600"/>
            <a:chOff x="-4680" y="4952880"/>
            <a:chExt cx="9910800" cy="1911600"/>
          </a:xfrm>
        </p:grpSpPr>
        <p:sp>
          <p:nvSpPr>
            <p:cNvPr id="49" name="16 Forma libre"/>
            <p:cNvSpPr/>
            <p:nvPr/>
          </p:nvSpPr>
          <p:spPr>
            <a:xfrm>
              <a:off x="1833120" y="4952880"/>
              <a:ext cx="8066880" cy="486720"/>
            </a:xfrm>
            <a:custGeom>
              <a:avLst/>
              <a:gdLst>
                <a:gd name="textAreaLeft" fmla="*/ 0 w 8066880"/>
                <a:gd name="textAreaRight" fmla="*/ 8067240 w 806688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0" name="18 Forma libre"/>
            <p:cNvSpPr/>
            <p:nvPr/>
          </p:nvSpPr>
          <p:spPr>
            <a:xfrm>
              <a:off x="45720" y="5236560"/>
              <a:ext cx="9854280" cy="786240"/>
            </a:xfrm>
            <a:custGeom>
              <a:avLst/>
              <a:gdLst>
                <a:gd name="textAreaLeft" fmla="*/ 0 w 9854280"/>
                <a:gd name="textAreaRight" fmla="*/ 9854640 w 985428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grpSp>
          <p:nvGrpSpPr>
            <p:cNvPr id="51" name="19 Forma libre"/>
            <p:cNvGrpSpPr/>
            <p:nvPr/>
          </p:nvGrpSpPr>
          <p:grpSpPr>
            <a:xfrm>
              <a:off x="1080" y="4992120"/>
              <a:ext cx="9905040" cy="1872360"/>
              <a:chOff x="1080" y="4992120"/>
              <a:chExt cx="9905040" cy="1872360"/>
            </a:xfrm>
          </p:grpSpPr>
          <p:pic>
            <p:nvPicPr>
              <p:cNvPr id="52" name="19 Forma libre" descr=""/>
              <p:cNvPicPr/>
              <p:nvPr/>
            </p:nvPicPr>
            <p:blipFill>
              <a:blip r:embed="rId2"/>
              <a:stretch/>
            </p:blipFill>
            <p:spPr>
              <a:xfrm>
                <a:off x="1080" y="4992120"/>
                <a:ext cx="990504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684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  <p:pic>
          <p:nvPicPr>
            <p:cNvPr id="54" name="20 Conector recto" descr=""/>
            <p:cNvPicPr/>
            <p:nvPr/>
          </p:nvPicPr>
          <p:blipFill>
            <a:blip r:embed="rId3"/>
            <a:stretch/>
          </p:blipFill>
          <p:spPr>
            <a:xfrm>
              <a:off x="-4680" y="4986000"/>
              <a:ext cx="991080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7287840" y="6408720"/>
            <a:ext cx="2079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744800" y="6408720"/>
            <a:ext cx="2546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9367920" y="6408720"/>
            <a:ext cx="39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F9CC4-EB3D-4CF0-B225-46DF8ABAB1B8}" type="slidenum">
              <a:rPr b="0" lang="en-GB" sz="10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12 Forma libre"/>
          <p:cNvSpPr/>
          <p:nvPr/>
        </p:nvSpPr>
        <p:spPr>
          <a:xfrm>
            <a:off x="541440" y="5945040"/>
            <a:ext cx="5351400" cy="920880"/>
          </a:xfrm>
          <a:custGeom>
            <a:avLst/>
            <a:gdLst>
              <a:gd name="textAreaLeft" fmla="*/ 0 w 5351400"/>
              <a:gd name="textAreaRight" fmla="*/ 5351760 w 535140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7" name="11 Forma libre"/>
          <p:cNvSpPr/>
          <p:nvPr/>
        </p:nvSpPr>
        <p:spPr>
          <a:xfrm>
            <a:off x="525600" y="5938920"/>
            <a:ext cx="3998880" cy="933480"/>
          </a:xfrm>
          <a:custGeom>
            <a:avLst/>
            <a:gdLst>
              <a:gd name="textAreaLeft" fmla="*/ 0 w 3998880"/>
              <a:gd name="textAreaRight" fmla="*/ 3999240 w 39988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98" name="13 Triángulo rectángulo"/>
          <p:cNvGrpSpPr/>
          <p:nvPr/>
        </p:nvGrpSpPr>
        <p:grpSpPr>
          <a:xfrm>
            <a:off x="-12600" y="5784840"/>
            <a:ext cx="3700440" cy="1092240"/>
            <a:chOff x="-12600" y="5784840"/>
            <a:chExt cx="3700440" cy="1092240"/>
          </a:xfrm>
        </p:grpSpPr>
        <p:pic>
          <p:nvPicPr>
            <p:cNvPr id="99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70044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99880" y="6421320"/>
              <a:ext cx="18432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pic>
        <p:nvPicPr>
          <p:cNvPr id="101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70044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10 Cheurón"/>
          <p:cNvSpPr/>
          <p:nvPr/>
        </p:nvSpPr>
        <p:spPr>
          <a:xfrm>
            <a:off x="3940200" y="3005280"/>
            <a:ext cx="198360" cy="228600"/>
          </a:xfrm>
          <a:custGeom>
            <a:avLst/>
            <a:gdLst>
              <a:gd name="textAreaLeft" fmla="*/ 0 w 198360"/>
              <a:gd name="textAreaRight" fmla="*/ 198720 w 198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3" name="15 Cheurón"/>
          <p:cNvSpPr/>
          <p:nvPr/>
        </p:nvSpPr>
        <p:spPr>
          <a:xfrm>
            <a:off x="3738600" y="3005280"/>
            <a:ext cx="196920" cy="228600"/>
          </a:xfrm>
          <a:custGeom>
            <a:avLst/>
            <a:gdLst>
              <a:gd name="textAreaLeft" fmla="*/ 0 w 196920"/>
              <a:gd name="textAreaRight" fmla="*/ 197280 w 1969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7287840" y="6408720"/>
            <a:ext cx="2079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744800" y="6408720"/>
            <a:ext cx="2546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9367920" y="6408720"/>
            <a:ext cx="39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4FE97-0F41-45F3-B360-56D18625401C}" type="slidenum">
              <a:rPr b="0" lang="en-GB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12 Forma libre"/>
          <p:cNvSpPr/>
          <p:nvPr/>
        </p:nvSpPr>
        <p:spPr>
          <a:xfrm>
            <a:off x="541440" y="5945040"/>
            <a:ext cx="5351400" cy="920880"/>
          </a:xfrm>
          <a:custGeom>
            <a:avLst/>
            <a:gdLst>
              <a:gd name="textAreaLeft" fmla="*/ 0 w 5351400"/>
              <a:gd name="textAreaRight" fmla="*/ 5351760 w 535140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6" name="11 Forma libre"/>
          <p:cNvSpPr/>
          <p:nvPr/>
        </p:nvSpPr>
        <p:spPr>
          <a:xfrm>
            <a:off x="525600" y="5938920"/>
            <a:ext cx="3998880" cy="933480"/>
          </a:xfrm>
          <a:custGeom>
            <a:avLst/>
            <a:gdLst>
              <a:gd name="textAreaLeft" fmla="*/ 0 w 3998880"/>
              <a:gd name="textAreaRight" fmla="*/ 3999240 w 39988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147" name="13 Triángulo rectángulo"/>
          <p:cNvGrpSpPr/>
          <p:nvPr/>
        </p:nvGrpSpPr>
        <p:grpSpPr>
          <a:xfrm>
            <a:off x="-12600" y="5784840"/>
            <a:ext cx="3700440" cy="1092240"/>
            <a:chOff x="-12600" y="5784840"/>
            <a:chExt cx="3700440" cy="1092240"/>
          </a:xfrm>
        </p:grpSpPr>
        <p:pic>
          <p:nvPicPr>
            <p:cNvPr id="148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70044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99880" y="6421320"/>
              <a:ext cx="18432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pic>
        <p:nvPicPr>
          <p:cNvPr id="150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70044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7287840" y="6408720"/>
            <a:ext cx="2079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744800" y="6408720"/>
            <a:ext cx="2546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9367920" y="6408720"/>
            <a:ext cx="39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10F23-BC94-470A-B6C9-90E0453DDE40}" type="slidenum">
              <a:rPr b="0" lang="en-GB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7287840" y="6408720"/>
            <a:ext cx="2079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744800" y="6408720"/>
            <a:ext cx="2546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9367920" y="6408720"/>
            <a:ext cx="39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074E3-A0F4-4D3C-B2A2-707E030C4CDE}" type="slidenum">
              <a:rPr b="0" lang="en-GB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12 Forma libre"/>
          <p:cNvSpPr/>
          <p:nvPr/>
        </p:nvSpPr>
        <p:spPr>
          <a:xfrm>
            <a:off x="541440" y="5945040"/>
            <a:ext cx="5351400" cy="920880"/>
          </a:xfrm>
          <a:custGeom>
            <a:avLst/>
            <a:gdLst>
              <a:gd name="textAreaLeft" fmla="*/ 0 w 5351400"/>
              <a:gd name="textAreaRight" fmla="*/ 5351760 w 535140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4" name="11 Forma libre"/>
          <p:cNvSpPr/>
          <p:nvPr/>
        </p:nvSpPr>
        <p:spPr>
          <a:xfrm>
            <a:off x="525600" y="5938920"/>
            <a:ext cx="3998880" cy="933480"/>
          </a:xfrm>
          <a:custGeom>
            <a:avLst/>
            <a:gdLst>
              <a:gd name="textAreaLeft" fmla="*/ 0 w 3998880"/>
              <a:gd name="textAreaRight" fmla="*/ 3999240 w 39988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235" name="13 Triángulo rectángulo"/>
          <p:cNvGrpSpPr/>
          <p:nvPr/>
        </p:nvGrpSpPr>
        <p:grpSpPr>
          <a:xfrm>
            <a:off x="-12600" y="5784840"/>
            <a:ext cx="3700440" cy="1092240"/>
            <a:chOff x="-12600" y="5784840"/>
            <a:chExt cx="3700440" cy="1092240"/>
          </a:xfrm>
        </p:grpSpPr>
        <p:pic>
          <p:nvPicPr>
            <p:cNvPr id="236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70044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99880" y="6421320"/>
              <a:ext cx="18432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pic>
        <p:nvPicPr>
          <p:cNvPr id="238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70044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7287840" y="6408720"/>
            <a:ext cx="2079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744800" y="6408720"/>
            <a:ext cx="2546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9367920" y="6408720"/>
            <a:ext cx="39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0FF24-AAB0-4D0D-927D-39C5577986F4}" type="slidenum">
              <a:rPr b="0" lang="en-GB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7287840" y="6408720"/>
            <a:ext cx="2079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744800" y="6408720"/>
            <a:ext cx="2546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9367920" y="6408720"/>
            <a:ext cx="39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F9EB6-7C18-4B03-A189-6FBFB241D60C}" type="slidenum">
              <a:rPr b="0" lang="en-GB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10 Forma libre"/>
          <p:cNvSpPr/>
          <p:nvPr/>
        </p:nvSpPr>
        <p:spPr>
          <a:xfrm>
            <a:off x="541440" y="5945040"/>
            <a:ext cx="5351400" cy="920880"/>
          </a:xfrm>
          <a:custGeom>
            <a:avLst/>
            <a:gdLst>
              <a:gd name="textAreaLeft" fmla="*/ 0 w 5351400"/>
              <a:gd name="textAreaRight" fmla="*/ 5351760 w 535140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2" name="15 Forma libre"/>
          <p:cNvSpPr/>
          <p:nvPr/>
        </p:nvSpPr>
        <p:spPr>
          <a:xfrm>
            <a:off x="525600" y="5938920"/>
            <a:ext cx="3998880" cy="933480"/>
          </a:xfrm>
          <a:custGeom>
            <a:avLst/>
            <a:gdLst>
              <a:gd name="textAreaLeft" fmla="*/ 0 w 3998880"/>
              <a:gd name="textAreaRight" fmla="*/ 3999240 w 39988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323" name="16 Triángulo rectángulo"/>
          <p:cNvGrpSpPr/>
          <p:nvPr/>
        </p:nvGrpSpPr>
        <p:grpSpPr>
          <a:xfrm>
            <a:off x="-12600" y="5784840"/>
            <a:ext cx="3700440" cy="1092240"/>
            <a:chOff x="-12600" y="5784840"/>
            <a:chExt cx="3700440" cy="1092240"/>
          </a:xfrm>
        </p:grpSpPr>
        <p:pic>
          <p:nvPicPr>
            <p:cNvPr id="324" name="16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70044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99880" y="6421320"/>
              <a:ext cx="18432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pic>
        <p:nvPicPr>
          <p:cNvPr id="326" name="18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70044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19 Cheurón"/>
          <p:cNvSpPr/>
          <p:nvPr/>
        </p:nvSpPr>
        <p:spPr>
          <a:xfrm>
            <a:off x="9387000" y="4987800"/>
            <a:ext cx="196560" cy="228600"/>
          </a:xfrm>
          <a:custGeom>
            <a:avLst/>
            <a:gdLst>
              <a:gd name="textAreaLeft" fmla="*/ 0 w 196560"/>
              <a:gd name="textAreaRight" fmla="*/ 196920 w 1965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8" name="20 Cheurón"/>
          <p:cNvSpPr/>
          <p:nvPr/>
        </p:nvSpPr>
        <p:spPr>
          <a:xfrm>
            <a:off x="9183600" y="4987800"/>
            <a:ext cx="198360" cy="228600"/>
          </a:xfrm>
          <a:custGeom>
            <a:avLst/>
            <a:gdLst>
              <a:gd name="textAreaLeft" fmla="*/ 0 w 198360"/>
              <a:gd name="textAreaRight" fmla="*/ 198720 w 198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7287840" y="6408720"/>
            <a:ext cx="2079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744800" y="6408720"/>
            <a:ext cx="2546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9367920" y="6408720"/>
            <a:ext cx="39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D2640-E097-491D-AF37-57B717A35674}" type="slidenum">
              <a:rPr b="0" lang="en-GB" sz="10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1. Diferentes niveles en la arquitectura de un computado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Máquinas virtuales</a:t>
            </a:r>
            <a:br>
              <a:rPr sz="2100"/>
            </a:b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2. Máquinas multinivel actual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3. Evolución histórica de las máquinas multinivel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5 Marcador de número de diapositiva"/>
          <p:cNvSpPr/>
          <p:nvPr/>
        </p:nvSpPr>
        <p:spPr>
          <a:xfrm>
            <a:off x="9367920" y="6408720"/>
            <a:ext cx="39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CFD75-305E-434F-8B47-33653541B3E4}" type="slidenum">
              <a:rPr b="0" lang="en-GB" sz="1000" spc="-1" strike="noStrike">
                <a:solidFill>
                  <a:srgbClr val="000000"/>
                </a:solidFill>
                <a:latin typeface="Book Antiqua"/>
              </a:rPr>
              <a:t>1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372" name="Rectang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9186840" cy="115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 txBox="1"/>
          <p:nvPr/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Los niveles 4 y superiores son utilizados por los </a:t>
            </a:r>
            <a:r>
              <a:rPr b="1" lang="en-GB" sz="2700" spc="-1" strike="noStrike">
                <a:solidFill>
                  <a:srgbClr val="000000"/>
                </a:solidFill>
                <a:latin typeface="Lucida Sans Unicode"/>
              </a:rPr>
              <a:t>programadores de aplicaciones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Los niveles inferiores están diseñados para ejecutar los intérpretes y traductores de los niveles superiores y son escritos por los </a:t>
            </a:r>
            <a:r>
              <a:rPr b="1" lang="en-GB" sz="2700" spc="-1" strike="noStrike">
                <a:solidFill>
                  <a:srgbClr val="000000"/>
                </a:solidFill>
                <a:latin typeface="Lucida Sans Unicode"/>
              </a:rPr>
              <a:t>programadores de sistemas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El ensamblador es el programa que lleva a cabo la traducción de un programa del nivel 4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1" name="5 Marcador de número de diapositiva"/>
          <p:cNvSpPr/>
          <p:nvPr/>
        </p:nvSpPr>
        <p:spPr>
          <a:xfrm>
            <a:off x="9367920" y="6408720"/>
            <a:ext cx="39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CC02A-431C-478C-AA08-DCD36FC23A21}" type="slidenum">
              <a:rPr b="0" lang="en-GB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452" name="Rectangle 2" descr=""/>
          <p:cNvPicPr/>
          <p:nvPr/>
        </p:nvPicPr>
        <p:blipFill>
          <a:blip r:embed="rId1"/>
          <a:stretch/>
        </p:blipFill>
        <p:spPr>
          <a:xfrm>
            <a:off x="231840" y="42840"/>
            <a:ext cx="9186840" cy="148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Los lenguajes de alto nivel son más fáciles de utilizar que los lenguajes de niveles inferior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Son utilizados por los programadores de aplicacion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Los traductores de programas en lenguaje de alto nivel pueden ser compiladores o intérpret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5 Marcador de número de diapositiva"/>
          <p:cNvSpPr/>
          <p:nvPr/>
        </p:nvSpPr>
        <p:spPr>
          <a:xfrm>
            <a:off x="9367920" y="6408720"/>
            <a:ext cx="39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41F93-5321-4A62-A583-E6E387E91899}" type="slidenum">
              <a:rPr b="0" lang="en-GB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455" name="Rectangle 2" descr=""/>
          <p:cNvPicPr/>
          <p:nvPr/>
        </p:nvPicPr>
        <p:blipFill>
          <a:blip r:embed="rId1"/>
          <a:stretch/>
        </p:blipFill>
        <p:spPr>
          <a:xfrm>
            <a:off x="231840" y="42840"/>
            <a:ext cx="9388440" cy="148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 txBox="1"/>
          <p:nvPr/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Historia de la arquitectura de computador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La arquitectura de los computadores ha ido evolucionando a lo largo de la historia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Se divide la historia en distintas etapas llamadas generaciones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7" name="5 Marcador de número de diapositiva"/>
          <p:cNvSpPr/>
          <p:nvPr/>
        </p:nvSpPr>
        <p:spPr>
          <a:xfrm>
            <a:off x="9367920" y="6408720"/>
            <a:ext cx="39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3F1B0-FDCE-4124-BE47-DC13F01CE61B}" type="slidenum">
              <a:rPr b="0" lang="en-GB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458" name="Rectangle 2" descr=""/>
          <p:cNvPicPr/>
          <p:nvPr/>
        </p:nvPicPr>
        <p:blipFill>
          <a:blip r:embed="rId1"/>
          <a:stretch/>
        </p:blipFill>
        <p:spPr>
          <a:xfrm>
            <a:off x="231840" y="42840"/>
            <a:ext cx="9320040" cy="148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Tecnología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Computadores mecánicos o electromecánicos con muchas limitaciones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Personas destacada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Blaise Pascal construyó en 1642 una máquina calculadora para sumar y restar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Charles Babbage construyó en 1834 de propósito general (almacén, taller y sección de E/S). Contrató a Ada para la programación de la máquina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Aiken construyó la Mark I en 1944, inspirado en los estudios de Babbage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0" name="5 Marcador de número de diapositiva"/>
          <p:cNvSpPr/>
          <p:nvPr/>
        </p:nvSpPr>
        <p:spPr>
          <a:xfrm>
            <a:off x="9367920" y="6408720"/>
            <a:ext cx="39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6C895-58B7-4648-8233-6A5A134EF595}" type="slidenum">
              <a:rPr b="0" lang="en-GB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461" name="Rectang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9186840" cy="115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 txBox="1"/>
          <p:nvPr/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Tecnología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Válvula electrónica de vacío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Modelo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ENIAC (1946): 18.000 válvulas, 30 toneladas, 1400 m</a:t>
            </a:r>
            <a:r>
              <a:rPr b="0" lang="en-GB" sz="2100" spc="-1" strike="noStrike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, 100 Kw, 5.000 sumas por segundo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EDSAC (1949): primer ordenador con programa almacenado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UNIVAC: primer ordenador comercial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Personas destacada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Jonh Von Neumann establece un modelo de la estructura de un ordenador (memoria,U.A.L., U. de control y U. de E/S). Crea la idea de computador con programa almacenado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5 Marcador de número de diapositiva"/>
          <p:cNvSpPr/>
          <p:nvPr/>
        </p:nvSpPr>
        <p:spPr>
          <a:xfrm>
            <a:off x="9367920" y="6408720"/>
            <a:ext cx="39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C30B0-C15F-46AF-BA49-298FD97D09D0}" type="slidenum">
              <a:rPr b="0" lang="en-GB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464" name="Rectang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9186840" cy="115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Modo de funcionamiento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Se programa en lenguaje máquina, propio de cada máquina y muy complicado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Se desconocen los leng. de programación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No existe S.O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Se realiza el programa cableado, se solicita hora para la máquina, se inserta el panel de conexiones en el computador para ejecutar el programa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Se resolvían cálculos numéricos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A principios de los 50 se mejoró el procedimiento con las tarjetas perforadas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6" name="5 Marcador de número de diapositiva"/>
          <p:cNvSpPr/>
          <p:nvPr/>
        </p:nvSpPr>
        <p:spPr>
          <a:xfrm>
            <a:off x="9367920" y="6408720"/>
            <a:ext cx="39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023BF-A6B0-4BC2-B080-21FABCAB1012}" type="slidenum">
              <a:rPr b="0" lang="en-GB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467" name="Rectang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9186840" cy="115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 txBox="1"/>
          <p:nvPr/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Tecnología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Transistor (Bardeen-Brattain, 1947). Ventajas: menor espacio, menor consumo, más barato y mayor fiabilidad. Esto hace disminuir el precio y tamaño de los computadores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Modelo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PDP-1 de DIGITAL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Modo de funcionamiento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Lenguajes de alto nivel : FORTRAN, COBOL, ALGOL, PL/1. Se escribe el programa en papel, se perfora en tarjetas, se lleva al operador, se recoge el listado de impresora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Sistema de procesamiento por lotes (con S.O.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9" name="5 Marcador de número de diapositiva"/>
          <p:cNvSpPr/>
          <p:nvPr/>
        </p:nvSpPr>
        <p:spPr>
          <a:xfrm>
            <a:off x="9367920" y="6408720"/>
            <a:ext cx="39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15F2A-405D-4929-AD8E-B71DB0AD4DFC}" type="slidenum">
              <a:rPr b="0" lang="en-GB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470" name="Rectang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9186840" cy="115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5 Marcador de número de diapositiva"/>
          <p:cNvSpPr/>
          <p:nvPr/>
        </p:nvSpPr>
        <p:spPr>
          <a:xfrm>
            <a:off x="9367920" y="6408720"/>
            <a:ext cx="39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C11A8-BA29-462A-849D-03105B7CEF1A}" type="slidenum">
              <a:rPr b="0" lang="en-GB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472" name="Rectangle 2" descr=""/>
          <p:cNvPicPr/>
          <p:nvPr/>
        </p:nvPicPr>
        <p:blipFill>
          <a:blip r:embed="rId1"/>
          <a:stretch/>
        </p:blipFill>
        <p:spPr>
          <a:xfrm>
            <a:off x="231840" y="42840"/>
            <a:ext cx="9186840" cy="1481040"/>
          </a:xfrm>
          <a:prstGeom prst="rect">
            <a:avLst/>
          </a:prstGeom>
          <a:ln w="0">
            <a:noFill/>
          </a:ln>
        </p:spPr>
      </p:pic>
      <p:sp>
        <p:nvSpPr>
          <p:cNvPr id="473" name="Rectangle 3"/>
          <p:cNvSpPr/>
          <p:nvPr/>
        </p:nvSpPr>
        <p:spPr>
          <a:xfrm>
            <a:off x="419040" y="4425840"/>
            <a:ext cx="2133720" cy="113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4" name="Rectangle 4"/>
          <p:cNvSpPr/>
          <p:nvPr/>
        </p:nvSpPr>
        <p:spPr>
          <a:xfrm>
            <a:off x="3720960" y="4425840"/>
            <a:ext cx="2381400" cy="113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5" name="Rectangle 5"/>
          <p:cNvSpPr/>
          <p:nvPr/>
        </p:nvSpPr>
        <p:spPr>
          <a:xfrm>
            <a:off x="7023240" y="4425840"/>
            <a:ext cx="2381040" cy="113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6" name="Rectangle 6"/>
          <p:cNvSpPr/>
          <p:nvPr/>
        </p:nvSpPr>
        <p:spPr>
          <a:xfrm>
            <a:off x="501480" y="3664080"/>
            <a:ext cx="730440" cy="672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7" name="Rectangle 7"/>
          <p:cNvSpPr/>
          <p:nvPr/>
        </p:nvSpPr>
        <p:spPr>
          <a:xfrm>
            <a:off x="1657440" y="2978280"/>
            <a:ext cx="730080" cy="1358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8" name="Rectangle 8"/>
          <p:cNvSpPr/>
          <p:nvPr/>
        </p:nvSpPr>
        <p:spPr>
          <a:xfrm>
            <a:off x="3720960" y="2901960"/>
            <a:ext cx="648000" cy="1434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9" name="Rectangle 9"/>
          <p:cNvSpPr/>
          <p:nvPr/>
        </p:nvSpPr>
        <p:spPr>
          <a:xfrm>
            <a:off x="4629240" y="2901960"/>
            <a:ext cx="647640" cy="1434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0" name="Rectangle 10"/>
          <p:cNvSpPr/>
          <p:nvPr/>
        </p:nvSpPr>
        <p:spPr>
          <a:xfrm>
            <a:off x="5454720" y="2901960"/>
            <a:ext cx="647640" cy="1434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1" name="Rectangle 11"/>
          <p:cNvSpPr/>
          <p:nvPr/>
        </p:nvSpPr>
        <p:spPr>
          <a:xfrm>
            <a:off x="7188120" y="2901960"/>
            <a:ext cx="730440" cy="1434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2" name="Rectangle 12"/>
          <p:cNvSpPr/>
          <p:nvPr/>
        </p:nvSpPr>
        <p:spPr>
          <a:xfrm>
            <a:off x="8344080" y="3740040"/>
            <a:ext cx="89532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3" name="Oval 13"/>
          <p:cNvSpPr/>
          <p:nvPr/>
        </p:nvSpPr>
        <p:spPr>
          <a:xfrm>
            <a:off x="4794120" y="3054240"/>
            <a:ext cx="317520" cy="368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4" name="Oval 14"/>
          <p:cNvSpPr/>
          <p:nvPr/>
        </p:nvSpPr>
        <p:spPr>
          <a:xfrm>
            <a:off x="4794120" y="3816360"/>
            <a:ext cx="317520" cy="368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5" name="Line 15"/>
          <p:cNvSpPr/>
          <p:nvPr/>
        </p:nvSpPr>
        <p:spPr>
          <a:xfrm>
            <a:off x="5118120" y="33526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6" name="Oval 16"/>
          <p:cNvSpPr/>
          <p:nvPr/>
        </p:nvSpPr>
        <p:spPr>
          <a:xfrm>
            <a:off x="5619600" y="3054240"/>
            <a:ext cx="317520" cy="368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7" name="Oval 17"/>
          <p:cNvSpPr/>
          <p:nvPr/>
        </p:nvSpPr>
        <p:spPr>
          <a:xfrm>
            <a:off x="5619600" y="3816360"/>
            <a:ext cx="317520" cy="368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8" name="Line 18"/>
          <p:cNvSpPr/>
          <p:nvPr/>
        </p:nvSpPr>
        <p:spPr>
          <a:xfrm>
            <a:off x="5943600" y="33526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9" name="Oval 19"/>
          <p:cNvSpPr/>
          <p:nvPr/>
        </p:nvSpPr>
        <p:spPr>
          <a:xfrm>
            <a:off x="3886200" y="3054240"/>
            <a:ext cx="317520" cy="368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0" name="Oval 20"/>
          <p:cNvSpPr/>
          <p:nvPr/>
        </p:nvSpPr>
        <p:spPr>
          <a:xfrm>
            <a:off x="3886200" y="3816360"/>
            <a:ext cx="317520" cy="368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1" name="Line 21"/>
          <p:cNvSpPr/>
          <p:nvPr/>
        </p:nvSpPr>
        <p:spPr>
          <a:xfrm>
            <a:off x="4210200" y="33526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2" name="Oval 22"/>
          <p:cNvSpPr/>
          <p:nvPr/>
        </p:nvSpPr>
        <p:spPr>
          <a:xfrm>
            <a:off x="1905120" y="3054240"/>
            <a:ext cx="317520" cy="368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3" name="Oval 23"/>
          <p:cNvSpPr/>
          <p:nvPr/>
        </p:nvSpPr>
        <p:spPr>
          <a:xfrm>
            <a:off x="1905120" y="3816360"/>
            <a:ext cx="317520" cy="368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4" name="Line 24"/>
          <p:cNvSpPr/>
          <p:nvPr/>
        </p:nvSpPr>
        <p:spPr>
          <a:xfrm>
            <a:off x="2228760" y="33526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5" name="Oval 25"/>
          <p:cNvSpPr/>
          <p:nvPr/>
        </p:nvSpPr>
        <p:spPr>
          <a:xfrm>
            <a:off x="7435800" y="3054240"/>
            <a:ext cx="317520" cy="368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6" name="Oval 26"/>
          <p:cNvSpPr/>
          <p:nvPr/>
        </p:nvSpPr>
        <p:spPr>
          <a:xfrm>
            <a:off x="7435800" y="3816360"/>
            <a:ext cx="317520" cy="368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7" name="Line 27"/>
          <p:cNvSpPr/>
          <p:nvPr/>
        </p:nvSpPr>
        <p:spPr>
          <a:xfrm>
            <a:off x="7759800" y="33526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8" name="Line 28"/>
          <p:cNvSpPr/>
          <p:nvPr/>
        </p:nvSpPr>
        <p:spPr>
          <a:xfrm>
            <a:off x="495360" y="4038480"/>
            <a:ext cx="74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9" name="Line 29"/>
          <p:cNvSpPr/>
          <p:nvPr/>
        </p:nvSpPr>
        <p:spPr>
          <a:xfrm>
            <a:off x="660240" y="3657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0" name="Line 30"/>
          <p:cNvSpPr/>
          <p:nvPr/>
        </p:nvSpPr>
        <p:spPr>
          <a:xfrm>
            <a:off x="825480" y="3657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1" name="Line 31"/>
          <p:cNvSpPr/>
          <p:nvPr/>
        </p:nvSpPr>
        <p:spPr>
          <a:xfrm>
            <a:off x="990720" y="3657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2" name="Line 32"/>
          <p:cNvSpPr/>
          <p:nvPr/>
        </p:nvSpPr>
        <p:spPr>
          <a:xfrm>
            <a:off x="1155600" y="3657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3" name="Line 33"/>
          <p:cNvSpPr/>
          <p:nvPr/>
        </p:nvSpPr>
        <p:spPr>
          <a:xfrm>
            <a:off x="8502480" y="3733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4" name="Line 34"/>
          <p:cNvSpPr/>
          <p:nvPr/>
        </p:nvSpPr>
        <p:spPr>
          <a:xfrm>
            <a:off x="8502480" y="4191120"/>
            <a:ext cx="74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5" name="Line 35"/>
          <p:cNvSpPr/>
          <p:nvPr/>
        </p:nvSpPr>
        <p:spPr>
          <a:xfrm>
            <a:off x="8502480" y="4038480"/>
            <a:ext cx="57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6" name="Line 36"/>
          <p:cNvSpPr/>
          <p:nvPr/>
        </p:nvSpPr>
        <p:spPr>
          <a:xfrm flipV="1">
            <a:off x="9080640" y="38858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7" name="Line 37"/>
          <p:cNvSpPr/>
          <p:nvPr/>
        </p:nvSpPr>
        <p:spPr>
          <a:xfrm flipH="1">
            <a:off x="8502480" y="3886200"/>
            <a:ext cx="57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8" name="Line 38"/>
          <p:cNvSpPr/>
          <p:nvPr/>
        </p:nvSpPr>
        <p:spPr>
          <a:xfrm>
            <a:off x="8667720" y="3429000"/>
            <a:ext cx="495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9" name="Arc 39"/>
          <p:cNvSpPr/>
          <p:nvPr/>
        </p:nvSpPr>
        <p:spPr>
          <a:xfrm>
            <a:off x="8502480" y="3429000"/>
            <a:ext cx="165240" cy="457200"/>
          </a:xfrm>
          <a:custGeom>
            <a:avLst/>
            <a:gdLst>
              <a:gd name="textAreaLeft" fmla="*/ 0 w 165240"/>
              <a:gd name="textAreaRight" fmla="*/ 165600 w 1652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fill="none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</a:path>
              <a:path stroke="0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  <a:lnTo>
                  <a:pt x="0" y="0"/>
                </a:lnTo>
                <a:close/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10" name="Arc 40"/>
          <p:cNvSpPr/>
          <p:nvPr/>
        </p:nvSpPr>
        <p:spPr>
          <a:xfrm>
            <a:off x="9080640" y="3429000"/>
            <a:ext cx="82440" cy="457200"/>
          </a:xfrm>
          <a:custGeom>
            <a:avLst/>
            <a:gdLst>
              <a:gd name="textAreaLeft" fmla="*/ 0 w 82440"/>
              <a:gd name="textAreaRight" fmla="*/ 82800 w 824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fill="none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</a:path>
              <a:path stroke="0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  <a:lnTo>
                  <a:pt x="0" y="0"/>
                </a:lnTo>
                <a:close/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11" name="Rectangle 41"/>
          <p:cNvSpPr/>
          <p:nvPr/>
        </p:nvSpPr>
        <p:spPr>
          <a:xfrm>
            <a:off x="401760" y="2994120"/>
            <a:ext cx="10188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ook Antiqua"/>
              </a:rPr>
              <a:t>lectora de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ook Antiqua"/>
              </a:rPr>
              <a:t>tarjetas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12" name="Rectangle 42"/>
          <p:cNvSpPr/>
          <p:nvPr/>
        </p:nvSpPr>
        <p:spPr>
          <a:xfrm>
            <a:off x="1420560" y="2536920"/>
            <a:ext cx="1498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ook Antiqua"/>
              </a:rPr>
              <a:t>Unidad de cinta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13" name="Rectangle 43"/>
          <p:cNvSpPr/>
          <p:nvPr/>
        </p:nvSpPr>
        <p:spPr>
          <a:xfrm>
            <a:off x="3974040" y="2003400"/>
            <a:ext cx="1684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ook Antiqua"/>
              </a:rPr>
              <a:t>Unidades de cinta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14" name="Rectangle 44"/>
          <p:cNvSpPr/>
          <p:nvPr/>
        </p:nvSpPr>
        <p:spPr>
          <a:xfrm>
            <a:off x="3619800" y="2384280"/>
            <a:ext cx="8434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ook Antiqua"/>
              </a:rPr>
              <a:t>de 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ook Antiqua"/>
              </a:rPr>
              <a:t>entrada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15" name="Rectangle 45"/>
          <p:cNvSpPr/>
          <p:nvPr/>
        </p:nvSpPr>
        <p:spPr>
          <a:xfrm>
            <a:off x="4527000" y="2384280"/>
            <a:ext cx="8326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ook Antiqua"/>
              </a:rPr>
              <a:t>del 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ook Antiqua"/>
              </a:rPr>
              <a:t>sistema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16" name="Rectangle 46"/>
          <p:cNvSpPr/>
          <p:nvPr/>
        </p:nvSpPr>
        <p:spPr>
          <a:xfrm>
            <a:off x="5446080" y="2384280"/>
            <a:ext cx="6728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ook Antiqua"/>
              </a:rPr>
              <a:t>de 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ook Antiqua"/>
              </a:rPr>
              <a:t>salida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17" name="Rectangle 47"/>
          <p:cNvSpPr/>
          <p:nvPr/>
        </p:nvSpPr>
        <p:spPr>
          <a:xfrm>
            <a:off x="6786360" y="2460600"/>
            <a:ext cx="1498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ook Antiqua"/>
              </a:rPr>
              <a:t>Unidad de cinta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18" name="Rectangle 48"/>
          <p:cNvSpPr/>
          <p:nvPr/>
        </p:nvSpPr>
        <p:spPr>
          <a:xfrm>
            <a:off x="8319960" y="2917800"/>
            <a:ext cx="1255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ook Antiqua"/>
              </a:rPr>
              <a:t>Impresora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19" name="Rectangle 49"/>
          <p:cNvSpPr/>
          <p:nvPr/>
        </p:nvSpPr>
        <p:spPr>
          <a:xfrm>
            <a:off x="654480" y="4754520"/>
            <a:ext cx="1684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1401 de IBM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20" name="Rectangle 50"/>
          <p:cNvSpPr/>
          <p:nvPr/>
        </p:nvSpPr>
        <p:spPr>
          <a:xfrm>
            <a:off x="4038840" y="4754520"/>
            <a:ext cx="1684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7094 de IBM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21" name="Rectangle 51"/>
          <p:cNvSpPr/>
          <p:nvPr/>
        </p:nvSpPr>
        <p:spPr>
          <a:xfrm>
            <a:off x="7423560" y="4754520"/>
            <a:ext cx="1684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1401 de IBM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5 Marcador de número de diapositiva"/>
          <p:cNvSpPr/>
          <p:nvPr/>
        </p:nvSpPr>
        <p:spPr>
          <a:xfrm>
            <a:off x="9367920" y="6408720"/>
            <a:ext cx="39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97100-9EB9-43C4-A886-507DFBD406B5}" type="slidenum">
              <a:rPr b="0" lang="en-GB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23" name="Rectangle 2" descr=""/>
          <p:cNvPicPr/>
          <p:nvPr/>
        </p:nvPicPr>
        <p:blipFill>
          <a:blip r:embed="rId1"/>
          <a:stretch/>
        </p:blipFill>
        <p:spPr>
          <a:xfrm>
            <a:off x="231840" y="42840"/>
            <a:ext cx="9186840" cy="1481040"/>
          </a:xfrm>
          <a:prstGeom prst="rect">
            <a:avLst/>
          </a:prstGeom>
          <a:ln w="0">
            <a:noFill/>
          </a:ln>
        </p:spPr>
      </p:pic>
      <p:sp>
        <p:nvSpPr>
          <p:cNvPr id="524" name="Rectangle 3"/>
          <p:cNvSpPr/>
          <p:nvPr/>
        </p:nvSpPr>
        <p:spPr>
          <a:xfrm>
            <a:off x="831960" y="4502160"/>
            <a:ext cx="3619440" cy="2044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25" name="Line 4"/>
          <p:cNvSpPr/>
          <p:nvPr/>
        </p:nvSpPr>
        <p:spPr>
          <a:xfrm>
            <a:off x="1238400" y="4191120"/>
            <a:ext cx="354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26" name="Line 5"/>
          <p:cNvSpPr/>
          <p:nvPr/>
        </p:nvSpPr>
        <p:spPr>
          <a:xfrm>
            <a:off x="4788000" y="4191120"/>
            <a:ext cx="0" cy="213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27" name="Line 6"/>
          <p:cNvSpPr/>
          <p:nvPr/>
        </p:nvSpPr>
        <p:spPr>
          <a:xfrm>
            <a:off x="1238400" y="4191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28" name="Line 7"/>
          <p:cNvSpPr/>
          <p:nvPr/>
        </p:nvSpPr>
        <p:spPr>
          <a:xfrm flipH="1">
            <a:off x="4457520" y="6324480"/>
            <a:ext cx="33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29" name="Line 8"/>
          <p:cNvSpPr/>
          <p:nvPr/>
        </p:nvSpPr>
        <p:spPr>
          <a:xfrm>
            <a:off x="1568520" y="3886200"/>
            <a:ext cx="354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30" name="Line 9"/>
          <p:cNvSpPr/>
          <p:nvPr/>
        </p:nvSpPr>
        <p:spPr>
          <a:xfrm>
            <a:off x="5118120" y="388620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31" name="Line 10"/>
          <p:cNvSpPr/>
          <p:nvPr/>
        </p:nvSpPr>
        <p:spPr>
          <a:xfrm>
            <a:off x="1568520" y="3886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32" name="Line 11"/>
          <p:cNvSpPr/>
          <p:nvPr/>
        </p:nvSpPr>
        <p:spPr>
          <a:xfrm flipH="1">
            <a:off x="4787640" y="6019920"/>
            <a:ext cx="33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33" name="Line 12"/>
          <p:cNvSpPr/>
          <p:nvPr/>
        </p:nvSpPr>
        <p:spPr>
          <a:xfrm>
            <a:off x="1898640" y="3581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34" name="Line 13"/>
          <p:cNvSpPr/>
          <p:nvPr/>
        </p:nvSpPr>
        <p:spPr>
          <a:xfrm>
            <a:off x="1898640" y="3581280"/>
            <a:ext cx="354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35" name="Line 14"/>
          <p:cNvSpPr/>
          <p:nvPr/>
        </p:nvSpPr>
        <p:spPr>
          <a:xfrm>
            <a:off x="5448240" y="358128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36" name="Line 15"/>
          <p:cNvSpPr/>
          <p:nvPr/>
        </p:nvSpPr>
        <p:spPr>
          <a:xfrm flipH="1">
            <a:off x="5117760" y="5715000"/>
            <a:ext cx="33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37" name="Line 16"/>
          <p:cNvSpPr/>
          <p:nvPr/>
        </p:nvSpPr>
        <p:spPr>
          <a:xfrm>
            <a:off x="2228760" y="3276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38" name="Line 17"/>
          <p:cNvSpPr/>
          <p:nvPr/>
        </p:nvSpPr>
        <p:spPr>
          <a:xfrm>
            <a:off x="2228760" y="3276720"/>
            <a:ext cx="354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39" name="Line 18"/>
          <p:cNvSpPr/>
          <p:nvPr/>
        </p:nvSpPr>
        <p:spPr>
          <a:xfrm>
            <a:off x="5778360" y="3276720"/>
            <a:ext cx="0" cy="213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0" name="Line 19"/>
          <p:cNvSpPr/>
          <p:nvPr/>
        </p:nvSpPr>
        <p:spPr>
          <a:xfrm flipH="1">
            <a:off x="5447880" y="5410080"/>
            <a:ext cx="33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1" name="Line 20"/>
          <p:cNvSpPr/>
          <p:nvPr/>
        </p:nvSpPr>
        <p:spPr>
          <a:xfrm>
            <a:off x="2558880" y="2971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2" name="Line 21"/>
          <p:cNvSpPr/>
          <p:nvPr/>
        </p:nvSpPr>
        <p:spPr>
          <a:xfrm>
            <a:off x="2558880" y="2971800"/>
            <a:ext cx="354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3" name="Line 22"/>
          <p:cNvSpPr/>
          <p:nvPr/>
        </p:nvSpPr>
        <p:spPr>
          <a:xfrm>
            <a:off x="6108840" y="297180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4" name="Line 23"/>
          <p:cNvSpPr/>
          <p:nvPr/>
        </p:nvSpPr>
        <p:spPr>
          <a:xfrm flipH="1">
            <a:off x="5778360" y="5105520"/>
            <a:ext cx="33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5" name="Line 24"/>
          <p:cNvSpPr/>
          <p:nvPr/>
        </p:nvSpPr>
        <p:spPr>
          <a:xfrm>
            <a:off x="2889360" y="2666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6" name="Line 25"/>
          <p:cNvSpPr/>
          <p:nvPr/>
        </p:nvSpPr>
        <p:spPr>
          <a:xfrm>
            <a:off x="2889360" y="2666880"/>
            <a:ext cx="354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7" name="Line 26"/>
          <p:cNvSpPr/>
          <p:nvPr/>
        </p:nvSpPr>
        <p:spPr>
          <a:xfrm>
            <a:off x="6438960" y="266688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8" name="Line 27"/>
          <p:cNvSpPr/>
          <p:nvPr/>
        </p:nvSpPr>
        <p:spPr>
          <a:xfrm flipH="1">
            <a:off x="6108480" y="4800600"/>
            <a:ext cx="33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9" name="Line 28"/>
          <p:cNvSpPr/>
          <p:nvPr/>
        </p:nvSpPr>
        <p:spPr>
          <a:xfrm>
            <a:off x="3219480" y="2362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50" name="Line 29"/>
          <p:cNvSpPr/>
          <p:nvPr/>
        </p:nvSpPr>
        <p:spPr>
          <a:xfrm>
            <a:off x="3219480" y="2362320"/>
            <a:ext cx="354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51" name="Line 30"/>
          <p:cNvSpPr/>
          <p:nvPr/>
        </p:nvSpPr>
        <p:spPr>
          <a:xfrm flipH="1">
            <a:off x="6438600" y="4495680"/>
            <a:ext cx="33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52" name="Line 31"/>
          <p:cNvSpPr/>
          <p:nvPr/>
        </p:nvSpPr>
        <p:spPr>
          <a:xfrm>
            <a:off x="6769080" y="2362320"/>
            <a:ext cx="0" cy="213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53" name="Line 32"/>
          <p:cNvSpPr/>
          <p:nvPr/>
        </p:nvSpPr>
        <p:spPr>
          <a:xfrm>
            <a:off x="3549600" y="2057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54" name="Line 33"/>
          <p:cNvSpPr/>
          <p:nvPr/>
        </p:nvSpPr>
        <p:spPr>
          <a:xfrm>
            <a:off x="3549600" y="2057400"/>
            <a:ext cx="354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55" name="Line 34"/>
          <p:cNvSpPr/>
          <p:nvPr/>
        </p:nvSpPr>
        <p:spPr>
          <a:xfrm>
            <a:off x="7099200" y="205740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56" name="Line 35"/>
          <p:cNvSpPr/>
          <p:nvPr/>
        </p:nvSpPr>
        <p:spPr>
          <a:xfrm flipH="1">
            <a:off x="6768720" y="4191120"/>
            <a:ext cx="33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57" name="Rectangle 36"/>
          <p:cNvSpPr/>
          <p:nvPr/>
        </p:nvSpPr>
        <p:spPr>
          <a:xfrm>
            <a:off x="847440" y="4548240"/>
            <a:ext cx="207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$JOB información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58" name="Rectangle 37"/>
          <p:cNvSpPr/>
          <p:nvPr/>
        </p:nvSpPr>
        <p:spPr>
          <a:xfrm>
            <a:off x="1400760" y="4167360"/>
            <a:ext cx="1343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$FORTRAN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59" name="Rectangle 38"/>
          <p:cNvSpPr/>
          <p:nvPr/>
        </p:nvSpPr>
        <p:spPr>
          <a:xfrm>
            <a:off x="2356560" y="3252960"/>
            <a:ext cx="9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$LOAD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60" name="Rectangle 39"/>
          <p:cNvSpPr/>
          <p:nvPr/>
        </p:nvSpPr>
        <p:spPr>
          <a:xfrm>
            <a:off x="2585520" y="2948040"/>
            <a:ext cx="79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$RUN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61" name="Rectangle 40"/>
          <p:cNvSpPr/>
          <p:nvPr/>
        </p:nvSpPr>
        <p:spPr>
          <a:xfrm>
            <a:off x="3575880" y="2033640"/>
            <a:ext cx="784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$END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62" name="Rectangle 41"/>
          <p:cNvSpPr/>
          <p:nvPr/>
        </p:nvSpPr>
        <p:spPr>
          <a:xfrm>
            <a:off x="419760" y="2185920"/>
            <a:ext cx="2336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Datos del programa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63" name="Line 42"/>
          <p:cNvSpPr/>
          <p:nvPr/>
        </p:nvSpPr>
        <p:spPr>
          <a:xfrm>
            <a:off x="2476440" y="2438280"/>
            <a:ext cx="66060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64" name="Rectangle 43"/>
          <p:cNvSpPr/>
          <p:nvPr/>
        </p:nvSpPr>
        <p:spPr>
          <a:xfrm>
            <a:off x="76680" y="3176640"/>
            <a:ext cx="1261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Programa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Fortran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65" name="Line 44"/>
          <p:cNvSpPr/>
          <p:nvPr/>
        </p:nvSpPr>
        <p:spPr>
          <a:xfrm>
            <a:off x="1073160" y="3581280"/>
            <a:ext cx="66024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 txBox="1"/>
          <p:nvPr/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Tecnología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Circuitos integrados SSI (hasta 100) y MSI (100-3000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Modelo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IBM sistema 360 y PDP-8 (DIGITAL)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Modo de funcionamiento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Lenguajes de alto nivel BASIC y PASCAL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S.O con multiprogramación: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Lucida Sans Unicode"/>
              </a:rPr>
              <a:t>División de la memoria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Lucida Sans Unicode"/>
              </a:rPr>
              <a:t>Procedimientos de spooling (operación simultánea de periféricos conectados en línea)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Lucida Sans Unicode"/>
              </a:rPr>
              <a:t>Tiempo compartido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7" name="5 Marcador de número de diapositiva"/>
          <p:cNvSpPr/>
          <p:nvPr/>
        </p:nvSpPr>
        <p:spPr>
          <a:xfrm>
            <a:off x="9367920" y="6408720"/>
            <a:ext cx="39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624D3-BFDD-4239-967F-43150BC3A6BE}" type="slidenum">
              <a:rPr b="0" lang="en-GB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68" name="Rectang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9186840" cy="115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Un </a:t>
            </a:r>
            <a:r>
              <a:rPr b="1" lang="en-GB" sz="2700" spc="-1" strike="noStrike">
                <a:solidFill>
                  <a:srgbClr val="000000"/>
                </a:solidFill>
                <a:latin typeface="Lucida Sans Unicode"/>
              </a:rPr>
              <a:t>computador digital 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es una máquina que puede resolver problemas ejecutando ciertas instruccion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Un </a:t>
            </a:r>
            <a:r>
              <a:rPr b="1" lang="en-GB" sz="2700" spc="-1" strike="noStrike">
                <a:solidFill>
                  <a:srgbClr val="000000"/>
                </a:solidFill>
                <a:latin typeface="Lucida Sans Unicode"/>
              </a:rPr>
              <a:t>programa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 es una secuencia de instruccion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Los circuitos electrónicos de cada computadora reconocen un conjunto limitado de instrucciones muy simpl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Lucida Sans Unicode"/>
              </a:rPr>
              <a:t>Lenguaje máquina 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es el conjunto de instrucciones básicas de una computadora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5 Marcador de número de diapositiva"/>
          <p:cNvSpPr/>
          <p:nvPr/>
        </p:nvSpPr>
        <p:spPr>
          <a:xfrm>
            <a:off x="9367920" y="6408720"/>
            <a:ext cx="39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38B37-81A6-40A4-810A-A1CAC4D27351}" type="slidenum">
              <a:rPr b="0" lang="en-GB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375" name="Rectangle 2" descr=""/>
          <p:cNvPicPr/>
          <p:nvPr/>
        </p:nvPicPr>
        <p:blipFill>
          <a:blip r:embed="rId1"/>
          <a:stretch/>
        </p:blipFill>
        <p:spPr>
          <a:xfrm>
            <a:off x="262080" y="122400"/>
            <a:ext cx="9156600" cy="134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 txBox="1"/>
          <p:nvPr/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Tecnología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Se integra la UCP en un sólo chip: el microprocesador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Circuitos integrados LSI (3000-30000) y VLSI (más de 30000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Modelo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IBM PC (1981), IBM PC XT (1982), IBM PC AT (1984), IBM PS/2 (1987), VAX (DIGITAL,1980), CRAY X-MP (1983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Modo de funcionamiento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Software fácil de usar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Sistemas operativos MS-DOS, UNIX.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Sistemas operativos de red y sistemas operativos distribuidos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0" name="5 Marcador de número de diapositiva"/>
          <p:cNvSpPr/>
          <p:nvPr/>
        </p:nvSpPr>
        <p:spPr>
          <a:xfrm>
            <a:off x="9367920" y="6408720"/>
            <a:ext cx="39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5C643-3864-4078-A2CF-FA62894A8350}" type="slidenum">
              <a:rPr b="0" lang="en-GB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71" name="Rectang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9186840" cy="115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 txBox="1"/>
          <p:nvPr/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Tecnología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Circuitos con más de un millón de componentes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Nuevas arquitecturas: paralelismo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Tecnología óptica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Modelo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CONNECTION MACHINE, máquina masivamente paralela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Modo de funcionamiento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Inteligencia artificial y sistemas expertos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3" name="5 Marcador de número de diapositiva"/>
          <p:cNvSpPr/>
          <p:nvPr/>
        </p:nvSpPr>
        <p:spPr>
          <a:xfrm>
            <a:off x="9367920" y="6408720"/>
            <a:ext cx="39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FA14B-A084-43C1-871B-459867E8C4D9}" type="slidenum">
              <a:rPr b="0" lang="en-GB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74" name="Rectang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9186840" cy="115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 txBox="1"/>
          <p:nvPr/>
        </p:nvSpPr>
        <p:spPr>
          <a:xfrm>
            <a:off x="742680" y="17524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21120" indent="-224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Los primeros computadores digitales (años 40) sólo tenían 2 niveles (convencional y lógica digital)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21120" indent="-224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Los circuitos digitales eran voluminosos, poco confiables y difíciles de construir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21120" indent="-224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El nivel de microprogramación se añadió para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755640" indent="-20088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simplificar la electrónica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755640" indent="-20088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facilitar la escritura de compiladore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755640" indent="-20088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ejecutar los programas más rápidamente (ROM más rápida que la RAM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755640" indent="-20088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en los 70 estaba plenamente difundido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21120" indent="-224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En los 50 aparecieron los ensambladores y compiladore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21120" indent="-224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En los 60 aparece el sistema operativo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6" name="5 Marcador de número de diapositiva"/>
          <p:cNvSpPr/>
          <p:nvPr/>
        </p:nvSpPr>
        <p:spPr>
          <a:xfrm>
            <a:off x="9367920" y="6408720"/>
            <a:ext cx="39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59984-6F32-44F6-BEAF-FD94D60AD602}" type="slidenum">
              <a:rPr b="0" lang="en-GB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77" name="Rectang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9186840" cy="115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 txBox="1"/>
          <p:nvPr/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Cuanto más complicado el lenguaje máquina, más grande, complicado y lento el microprograma (ya que necesitan procedimientos)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La velocidad de la memoria RAM se aumentó con el avance de la tecnología (memorias de semiconductores)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Es difícil escribir, depurar y mantener el microcódigo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A principios de los 80 se elimina el nivel de microprogramación para dar paso a las máquinas RISC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9" name="5 Marcador de número de diapositiva"/>
          <p:cNvSpPr/>
          <p:nvPr/>
        </p:nvSpPr>
        <p:spPr>
          <a:xfrm>
            <a:off x="9367920" y="6408720"/>
            <a:ext cx="39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1672A-34A0-4BEE-903D-048995FA9517}" type="slidenum">
              <a:rPr b="0" lang="en-GB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80" name="Rectang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9186840" cy="115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Utilizar lenguaje máquina es difícil y tedioso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Solució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sea L1 el lenguaje máquina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y L2 un lenguaje más fácil de utilizar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5 Marcador de número de diapositiva"/>
          <p:cNvSpPr/>
          <p:nvPr/>
        </p:nvSpPr>
        <p:spPr>
          <a:xfrm>
            <a:off x="9367920" y="6408720"/>
            <a:ext cx="39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23241-2847-4829-BFAA-E7DA14DBE2DB}" type="slidenum">
              <a:rPr b="0" lang="en-GB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378" name="Rectang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9186840" cy="1158840"/>
          </a:xfrm>
          <a:prstGeom prst="rect">
            <a:avLst/>
          </a:prstGeom>
          <a:ln w="0">
            <a:noFill/>
          </a:ln>
        </p:spPr>
      </p:pic>
      <p:sp>
        <p:nvSpPr>
          <p:cNvPr id="379" name="Rectangle 4"/>
          <p:cNvSpPr/>
          <p:nvPr/>
        </p:nvSpPr>
        <p:spPr>
          <a:xfrm>
            <a:off x="2731680" y="4098960"/>
            <a:ext cx="2477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ook Antiqua"/>
              </a:rPr>
              <a:t>programa en L2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0" name="Rectangle 5"/>
          <p:cNvSpPr/>
          <p:nvPr/>
        </p:nvSpPr>
        <p:spPr>
          <a:xfrm>
            <a:off x="2731680" y="5775480"/>
            <a:ext cx="2477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ook Antiqua"/>
              </a:rPr>
              <a:t>programa en L1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1" name="AutoShape 6"/>
          <p:cNvSpPr/>
          <p:nvPr/>
        </p:nvSpPr>
        <p:spPr>
          <a:xfrm>
            <a:off x="3638520" y="4578480"/>
            <a:ext cx="482760" cy="1206360"/>
          </a:xfrm>
          <a:prstGeom prst="downArrow">
            <a:avLst>
              <a:gd name="adj1" fmla="val 50000"/>
              <a:gd name="adj2" fmla="val 124956"/>
            </a:avLst>
          </a:prstGeom>
          <a:solidFill>
            <a:srgbClr val="2da2b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2" name="Rectangle 7"/>
          <p:cNvSpPr/>
          <p:nvPr/>
        </p:nvSpPr>
        <p:spPr>
          <a:xfrm>
            <a:off x="5020200" y="4632480"/>
            <a:ext cx="3809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ook Antiqua"/>
              </a:rPr>
              <a:t>compilación (compilador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3" name="Rectangle 8"/>
          <p:cNvSpPr/>
          <p:nvPr/>
        </p:nvSpPr>
        <p:spPr>
          <a:xfrm>
            <a:off x="4968000" y="5241960"/>
            <a:ext cx="3934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ook Antiqua"/>
              </a:rPr>
              <a:t>interpretación (intérprete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4" name="AutoShape 9"/>
          <p:cNvSpPr/>
          <p:nvPr/>
        </p:nvSpPr>
        <p:spPr>
          <a:xfrm>
            <a:off x="3638520" y="4578480"/>
            <a:ext cx="482760" cy="1206360"/>
          </a:xfrm>
          <a:prstGeom prst="downArrow">
            <a:avLst>
              <a:gd name="adj1" fmla="val 50000"/>
              <a:gd name="adj2" fmla="val 124956"/>
            </a:avLst>
          </a:prstGeom>
          <a:solidFill>
            <a:srgbClr val="2da2b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Se puede imaginar la existencia de una </a:t>
            </a:r>
            <a:r>
              <a:rPr b="1" lang="en-GB" sz="2700" spc="-1" strike="noStrike">
                <a:solidFill>
                  <a:srgbClr val="000000"/>
                </a:solidFill>
                <a:latin typeface="Lucida Sans Unicode"/>
              </a:rPr>
              <a:t>máquina virtual 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cuyo lenguaje máquina es L2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Se pueden crear L3, L4... cada uno más fácil de utiliza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5 Marcador de número de diapositiva"/>
          <p:cNvSpPr/>
          <p:nvPr/>
        </p:nvSpPr>
        <p:spPr>
          <a:xfrm>
            <a:off x="9367920" y="6408720"/>
            <a:ext cx="39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E4456-D7E0-480A-9BD5-1F0AE4D8870D}" type="slidenum">
              <a:rPr b="0" lang="en-GB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9186840" cy="115884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4"/>
          <p:cNvSpPr/>
          <p:nvPr/>
        </p:nvSpPr>
        <p:spPr>
          <a:xfrm>
            <a:off x="4965840" y="3786120"/>
            <a:ext cx="892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nivel n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9" name="Rectangle 5"/>
          <p:cNvSpPr/>
          <p:nvPr/>
        </p:nvSpPr>
        <p:spPr>
          <a:xfrm>
            <a:off x="4960440" y="4548240"/>
            <a:ext cx="88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nivel 3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0" name="Rectangle 6"/>
          <p:cNvSpPr/>
          <p:nvPr/>
        </p:nvSpPr>
        <p:spPr>
          <a:xfrm>
            <a:off x="4960440" y="5157720"/>
            <a:ext cx="88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nivel 2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1" name="Rectangle 7"/>
          <p:cNvSpPr/>
          <p:nvPr/>
        </p:nvSpPr>
        <p:spPr>
          <a:xfrm>
            <a:off x="4960440" y="5767560"/>
            <a:ext cx="88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nivel 1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2" name="Line 8"/>
          <p:cNvSpPr/>
          <p:nvPr/>
        </p:nvSpPr>
        <p:spPr>
          <a:xfrm>
            <a:off x="4044960" y="4876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3" name="Line 9"/>
          <p:cNvSpPr/>
          <p:nvPr/>
        </p:nvSpPr>
        <p:spPr>
          <a:xfrm>
            <a:off x="4044960" y="54864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4" name="Line 10"/>
          <p:cNvSpPr/>
          <p:nvPr/>
        </p:nvSpPr>
        <p:spPr>
          <a:xfrm>
            <a:off x="4044960" y="4038480"/>
            <a:ext cx="0" cy="609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5" name="Line 11"/>
          <p:cNvSpPr/>
          <p:nvPr/>
        </p:nvSpPr>
        <p:spPr>
          <a:xfrm>
            <a:off x="4044960" y="4191120"/>
            <a:ext cx="0" cy="304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6" name="Line 12"/>
          <p:cNvSpPr/>
          <p:nvPr/>
        </p:nvSpPr>
        <p:spPr>
          <a:xfrm>
            <a:off x="4044960" y="4191120"/>
            <a:ext cx="0" cy="304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7" name="Rectangle 13"/>
          <p:cNvSpPr/>
          <p:nvPr/>
        </p:nvSpPr>
        <p:spPr>
          <a:xfrm>
            <a:off x="3398400" y="3801960"/>
            <a:ext cx="1070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Book Antiqua"/>
              </a:rPr>
              <a:t>Mn  con  Ln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8" name="Rectangle 14"/>
          <p:cNvSpPr/>
          <p:nvPr/>
        </p:nvSpPr>
        <p:spPr>
          <a:xfrm>
            <a:off x="3556800" y="4640400"/>
            <a:ext cx="890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Book Antiqua"/>
              </a:rPr>
              <a:t>M3  con   L3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9" name="Rectangle 15"/>
          <p:cNvSpPr/>
          <p:nvPr/>
        </p:nvSpPr>
        <p:spPr>
          <a:xfrm>
            <a:off x="3556080" y="5249880"/>
            <a:ext cx="857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Book Antiqua"/>
              </a:rPr>
              <a:t>M2  con  L2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0" name="Rectangle 16"/>
          <p:cNvSpPr/>
          <p:nvPr/>
        </p:nvSpPr>
        <p:spPr>
          <a:xfrm>
            <a:off x="3556080" y="5859360"/>
            <a:ext cx="857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Book Antiqua"/>
              </a:rPr>
              <a:t>M1  con  L1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1" name="Rectangle 17"/>
          <p:cNvSpPr/>
          <p:nvPr/>
        </p:nvSpPr>
        <p:spPr>
          <a:xfrm>
            <a:off x="3789000" y="4022640"/>
            <a:ext cx="346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2" name="Rectangle 18"/>
          <p:cNvSpPr/>
          <p:nvPr/>
        </p:nvSpPr>
        <p:spPr>
          <a:xfrm>
            <a:off x="3870000" y="4175280"/>
            <a:ext cx="267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3" name="Rectangle 19"/>
          <p:cNvSpPr/>
          <p:nvPr/>
        </p:nvSpPr>
        <p:spPr>
          <a:xfrm>
            <a:off x="3390840" y="3816360"/>
            <a:ext cx="130824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4" name="Rectangle 20"/>
          <p:cNvSpPr/>
          <p:nvPr/>
        </p:nvSpPr>
        <p:spPr>
          <a:xfrm>
            <a:off x="3390840" y="4654440"/>
            <a:ext cx="130824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5" name="Rectangle 21"/>
          <p:cNvSpPr/>
          <p:nvPr/>
        </p:nvSpPr>
        <p:spPr>
          <a:xfrm>
            <a:off x="3390840" y="5264280"/>
            <a:ext cx="130824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6" name="Rectangle 22"/>
          <p:cNvSpPr/>
          <p:nvPr/>
        </p:nvSpPr>
        <p:spPr>
          <a:xfrm>
            <a:off x="3390840" y="5873760"/>
            <a:ext cx="130824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6 Marcador de número de diapositiva"/>
          <p:cNvSpPr/>
          <p:nvPr/>
        </p:nvSpPr>
        <p:spPr>
          <a:xfrm>
            <a:off x="9367920" y="6408720"/>
            <a:ext cx="39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E3DB5-F9ED-462C-B0EE-767442097FC2}" type="slidenum">
              <a:rPr b="0" lang="en-GB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408" name="Rectangle 2" descr=""/>
          <p:cNvPicPr/>
          <p:nvPr/>
        </p:nvPicPr>
        <p:blipFill>
          <a:blip r:embed="rId1"/>
          <a:stretch/>
        </p:blipFill>
        <p:spPr>
          <a:xfrm>
            <a:off x="262080" y="268200"/>
            <a:ext cx="9156600" cy="1158840"/>
          </a:xfrm>
          <a:prstGeom prst="rect">
            <a:avLst/>
          </a:prstGeom>
          <a:ln w="0">
            <a:noFill/>
          </a:ln>
        </p:spPr>
      </p:pic>
      <p:sp>
        <p:nvSpPr>
          <p:cNvPr id="409" name="Rectangle 3"/>
          <p:cNvSpPr/>
          <p:nvPr/>
        </p:nvSpPr>
        <p:spPr>
          <a:xfrm>
            <a:off x="511812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ook Antiqua"/>
              </a:rPr>
              <a:t>La mayoría de las máquinas actuales constan de 6 niveles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ook Antiqua"/>
              </a:rPr>
              <a:t>Los microprogramas son directamente ejecutados por el hardware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0" name="Rectangle 4"/>
          <p:cNvSpPr/>
          <p:nvPr/>
        </p:nvSpPr>
        <p:spPr>
          <a:xfrm>
            <a:off x="1739880" y="2216160"/>
            <a:ext cx="1555920" cy="291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1" name="Rectangle 5"/>
          <p:cNvSpPr/>
          <p:nvPr/>
        </p:nvSpPr>
        <p:spPr>
          <a:xfrm>
            <a:off x="1739880" y="3054240"/>
            <a:ext cx="1555920" cy="292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2" name="Rectangle 6"/>
          <p:cNvSpPr/>
          <p:nvPr/>
        </p:nvSpPr>
        <p:spPr>
          <a:xfrm>
            <a:off x="1739880" y="3816360"/>
            <a:ext cx="1555920" cy="291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3" name="Rectangle 7"/>
          <p:cNvSpPr/>
          <p:nvPr/>
        </p:nvSpPr>
        <p:spPr>
          <a:xfrm>
            <a:off x="1739880" y="4578480"/>
            <a:ext cx="1555920" cy="291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4" name="Rectangle 8"/>
          <p:cNvSpPr/>
          <p:nvPr/>
        </p:nvSpPr>
        <p:spPr>
          <a:xfrm>
            <a:off x="1739880" y="5340240"/>
            <a:ext cx="1555920" cy="292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5" name="Rectangle 9"/>
          <p:cNvSpPr/>
          <p:nvPr/>
        </p:nvSpPr>
        <p:spPr>
          <a:xfrm>
            <a:off x="1739880" y="6102360"/>
            <a:ext cx="1555920" cy="291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6" name="Rectangle 10"/>
          <p:cNvSpPr/>
          <p:nvPr/>
        </p:nvSpPr>
        <p:spPr>
          <a:xfrm>
            <a:off x="1733400" y="2286000"/>
            <a:ext cx="1981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Book Antiqua"/>
              </a:rPr>
              <a:t>Lenguajes de alto nivel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7" name="Rectangle 11"/>
          <p:cNvSpPr/>
          <p:nvPr/>
        </p:nvSpPr>
        <p:spPr>
          <a:xfrm>
            <a:off x="1733400" y="3124080"/>
            <a:ext cx="206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Book Antiqua"/>
              </a:rPr>
              <a:t>Lenguaje ensamblador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8" name="Rectangle 12"/>
          <p:cNvSpPr/>
          <p:nvPr/>
        </p:nvSpPr>
        <p:spPr>
          <a:xfrm>
            <a:off x="1898640" y="3886200"/>
            <a:ext cx="1568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Book Antiqua"/>
              </a:rPr>
              <a:t>Sistema operativo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9" name="Rectangle 13"/>
          <p:cNvSpPr/>
          <p:nvPr/>
        </p:nvSpPr>
        <p:spPr>
          <a:xfrm>
            <a:off x="1733400" y="4648320"/>
            <a:ext cx="1816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Book Antiqua"/>
              </a:rPr>
              <a:t>Máquina convencional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0" name="Rectangle 14"/>
          <p:cNvSpPr/>
          <p:nvPr/>
        </p:nvSpPr>
        <p:spPr>
          <a:xfrm>
            <a:off x="1816200" y="5410080"/>
            <a:ext cx="1568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Book Antiqua"/>
              </a:rPr>
              <a:t>Microprogramación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1" name="Rectangle 15"/>
          <p:cNvSpPr/>
          <p:nvPr/>
        </p:nvSpPr>
        <p:spPr>
          <a:xfrm>
            <a:off x="1898640" y="6172200"/>
            <a:ext cx="1568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Book Antiqua"/>
              </a:rPr>
              <a:t>Lógica digital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2" name="Line 16"/>
          <p:cNvSpPr/>
          <p:nvPr/>
        </p:nvSpPr>
        <p:spPr>
          <a:xfrm>
            <a:off x="2394000" y="251460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3" name="Line 17"/>
          <p:cNvSpPr/>
          <p:nvPr/>
        </p:nvSpPr>
        <p:spPr>
          <a:xfrm>
            <a:off x="2394000" y="33526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4" name="Line 18"/>
          <p:cNvSpPr/>
          <p:nvPr/>
        </p:nvSpPr>
        <p:spPr>
          <a:xfrm>
            <a:off x="2394000" y="411480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5" name="Line 19"/>
          <p:cNvSpPr/>
          <p:nvPr/>
        </p:nvSpPr>
        <p:spPr>
          <a:xfrm>
            <a:off x="2394000" y="487692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6" name="Line 20"/>
          <p:cNvSpPr/>
          <p:nvPr/>
        </p:nvSpPr>
        <p:spPr>
          <a:xfrm>
            <a:off x="2394000" y="56386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7" name="Rectangle 21"/>
          <p:cNvSpPr/>
          <p:nvPr/>
        </p:nvSpPr>
        <p:spPr>
          <a:xfrm>
            <a:off x="907920" y="2209680"/>
            <a:ext cx="825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Book Antiqua"/>
              </a:rPr>
              <a:t>nivel 5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8" name="Rectangle 22"/>
          <p:cNvSpPr/>
          <p:nvPr/>
        </p:nvSpPr>
        <p:spPr>
          <a:xfrm>
            <a:off x="907920" y="3048120"/>
            <a:ext cx="990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Book Antiqua"/>
              </a:rPr>
              <a:t>nivel 4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9" name="Rectangle 23"/>
          <p:cNvSpPr/>
          <p:nvPr/>
        </p:nvSpPr>
        <p:spPr>
          <a:xfrm>
            <a:off x="907920" y="3809880"/>
            <a:ext cx="825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Book Antiqua"/>
              </a:rPr>
              <a:t>nivel 3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0" name="Rectangle 24"/>
          <p:cNvSpPr/>
          <p:nvPr/>
        </p:nvSpPr>
        <p:spPr>
          <a:xfrm>
            <a:off x="907920" y="4572000"/>
            <a:ext cx="825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Book Antiqua"/>
              </a:rPr>
              <a:t>nivel 2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1" name="Rectangle 25"/>
          <p:cNvSpPr/>
          <p:nvPr/>
        </p:nvSpPr>
        <p:spPr>
          <a:xfrm>
            <a:off x="907920" y="5334120"/>
            <a:ext cx="743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Book Antiqua"/>
              </a:rPr>
              <a:t>nivel 1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2" name="Rectangle 26"/>
          <p:cNvSpPr/>
          <p:nvPr/>
        </p:nvSpPr>
        <p:spPr>
          <a:xfrm>
            <a:off x="907920" y="6095880"/>
            <a:ext cx="825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Book Antiqua"/>
              </a:rPr>
              <a:t>nivel 0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3" name="Rectangle 27"/>
          <p:cNvSpPr/>
          <p:nvPr/>
        </p:nvSpPr>
        <p:spPr>
          <a:xfrm>
            <a:off x="2806560" y="2590920"/>
            <a:ext cx="2146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Book Antiqua"/>
              </a:rPr>
              <a:t>Traducción (compilador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4" name="Rectangle 28"/>
          <p:cNvSpPr/>
          <p:nvPr/>
        </p:nvSpPr>
        <p:spPr>
          <a:xfrm>
            <a:off x="2806560" y="3429000"/>
            <a:ext cx="2229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Book Antiqua"/>
              </a:rPr>
              <a:t>Traducción(ensamblador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5" name="Rectangle 29"/>
          <p:cNvSpPr/>
          <p:nvPr/>
        </p:nvSpPr>
        <p:spPr>
          <a:xfrm>
            <a:off x="2558880" y="4191120"/>
            <a:ext cx="2806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Book Antiqua"/>
              </a:rPr>
              <a:t>Interpretación (sistema operativo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6" name="Rectangle 30"/>
          <p:cNvSpPr/>
          <p:nvPr/>
        </p:nvSpPr>
        <p:spPr>
          <a:xfrm>
            <a:off x="2724120" y="4952880"/>
            <a:ext cx="2971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Book Antiqua"/>
              </a:rPr>
              <a:t>Interpretación (microprograma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7" name="Rectangle 31"/>
          <p:cNvSpPr/>
          <p:nvPr/>
        </p:nvSpPr>
        <p:spPr>
          <a:xfrm>
            <a:off x="2641680" y="5715000"/>
            <a:ext cx="2146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Book Antiqua"/>
              </a:rPr>
              <a:t>Ejecutados directament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Es el hardware de la máquina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El nivel inferior sería el nivel de dispositivo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En este nivel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Puertas lógica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Circuitos integrado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Circuitos combinacionale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Circuitos aritmético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Reloje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Memoria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Microprocesadore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Buse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5 Marcador de número de diapositiva"/>
          <p:cNvSpPr/>
          <p:nvPr/>
        </p:nvSpPr>
        <p:spPr>
          <a:xfrm>
            <a:off x="9367920" y="6408720"/>
            <a:ext cx="39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2FC4E-99D4-4D80-924B-D9E15DD131DD}" type="slidenum">
              <a:rPr b="0" lang="en-GB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440" name="Rectang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9186840" cy="115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Existe un programa llamado microprograma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La función del microprograma es interpretar las instrucciones del nivel 2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En algunas máquinas no existe el nivel de microprogramació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2" name="5 Marcador de número de diapositiva"/>
          <p:cNvSpPr/>
          <p:nvPr/>
        </p:nvSpPr>
        <p:spPr>
          <a:xfrm>
            <a:off x="9367920" y="6408720"/>
            <a:ext cx="39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6656B-F9EC-4BB6-9608-295A335D549F}" type="slidenum">
              <a:rPr b="0" lang="en-GB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443" name="Rectangle 2" descr=""/>
          <p:cNvPicPr/>
          <p:nvPr/>
        </p:nvPicPr>
        <p:blipFill>
          <a:blip r:embed="rId1"/>
          <a:stretch/>
        </p:blipFill>
        <p:spPr>
          <a:xfrm>
            <a:off x="262080" y="268200"/>
            <a:ext cx="9156600" cy="115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Cada fabricante publica el “Manual de referencia del lenguaje máquina” para cada uno de los computador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Las instrucciones del nivel de máquina las interpreta el microprograma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En las máquinas en las que no existe el nivel de microprogramación, las instrucciones del nivel de máquina son realizadas directamente por los circuitos electrónico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5" name="5 Marcador de número de diapositiva"/>
          <p:cNvSpPr/>
          <p:nvPr/>
        </p:nvSpPr>
        <p:spPr>
          <a:xfrm>
            <a:off x="9367920" y="6408720"/>
            <a:ext cx="39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5D76F-E131-4A5D-AF4C-B1AB67DEADDE}" type="slidenum">
              <a:rPr b="0" lang="en-GB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446" name="Rectangle 2" descr=""/>
          <p:cNvPicPr/>
          <p:nvPr/>
        </p:nvPicPr>
        <p:blipFill>
          <a:blip r:embed="rId1"/>
          <a:stretch/>
        </p:blipFill>
        <p:spPr>
          <a:xfrm>
            <a:off x="262080" y="122400"/>
            <a:ext cx="9156600" cy="134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49500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La mayoría de las instrucciones de este nivel están también en el nivel 2 pero además tiene un nuevo conjunto de instrucciones, una organización diferente de la memoria, posibilidad de ejecutar 2 o más programas ..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Las nuevas instrucciones las interpreta el </a:t>
            </a:r>
            <a:r>
              <a:rPr b="1" lang="en-GB" sz="2700" spc="-1" strike="noStrike">
                <a:solidFill>
                  <a:srgbClr val="000000"/>
                </a:solidFill>
                <a:latin typeface="Lucida Sans Unicode"/>
              </a:rPr>
              <a:t>sistema operativo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Las que son idénticas a las del nivel 2 las lleva a cabo el microprograma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5 Marcador de número de diapositiva"/>
          <p:cNvSpPr/>
          <p:nvPr/>
        </p:nvSpPr>
        <p:spPr>
          <a:xfrm>
            <a:off x="9367920" y="6408720"/>
            <a:ext cx="39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7807A-5AF7-458E-9BB5-C40BF0DE9D78}" type="slidenum">
              <a:rPr b="0" lang="en-GB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449" name="Rectangle 2" descr=""/>
          <p:cNvPicPr/>
          <p:nvPr/>
        </p:nvPicPr>
        <p:blipFill>
          <a:blip r:embed="rId1"/>
          <a:stretch/>
        </p:blipFill>
        <p:spPr>
          <a:xfrm>
            <a:off x="231840" y="42840"/>
            <a:ext cx="9186840" cy="1481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9-26T10:49:54Z</dcterms:created>
  <dc:creator>TELEMATICA</dc:creator>
  <dc:description/>
  <cp:keywords/>
  <dc:language>en-US</dc:language>
  <cp:lastModifiedBy>Rossy</cp:lastModifiedBy>
  <cp:lastPrinted>2003-09-30T08:21:08Z</cp:lastPrinted>
  <dcterms:modified xsi:type="dcterms:W3CDTF">2011-02-01T16:28:03Z</dcterms:modified>
  <cp:revision>20</cp:revision>
  <dc:subject/>
  <dc:title>TEMA 1. INTRODUCCIÓN</dc:title>
</cp:coreProperties>
</file>